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C86-7A94-470E-9426-4DC24133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757-CF69-4402-9D91-7C9EAB6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3AD-1FAD-4BC9-804F-46F9DBBF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A74-4335-417D-8AAF-49ACCC99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A7F-E548-4795-9F06-D664AAC5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7C4-235F-475B-89A9-6BECDC03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EA6-2EE4-46C7-8CD6-9615697C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E2F-49FE-4124-A868-B5CD29A1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18D-E206-41B4-8209-2890CD9D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C1F-F150-4FA8-AAD6-B4661F36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6D5-F47B-4491-B3B7-6669E98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522-CF8E-488D-933F-11474F9E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43A4-3E81-41D8-A656-BFF1EDA740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java.com/en/download/index.jsp" TargetMode="External"/><Relationship Id="rId4" Type="http://schemas.openxmlformats.org/officeDocument/2006/relationships/hyperlink" Target="http://www.java.com/en/download/index.jsp" TargetMode="External"/><Relationship Id="rId5" Type="http://schemas.openxmlformats.org/officeDocument/2006/relationships/hyperlink" Target="http://www.java.com/en/download/index.jsp" TargetMode="External"/><Relationship Id="rId6" Type="http://schemas.openxmlformats.org/officeDocument/2006/relationships/hyperlink" Target="http://www.java.com/en/download/index.jsp" TargetMode="External"/><Relationship Id="rId7" Type="http://schemas.openxmlformats.org/officeDocument/2006/relationships/hyperlink" Target="http://www.java.com/en/download/index.jsp" TargetMode="External"/><Relationship Id="rId8" Type="http://schemas.openxmlformats.org/officeDocument/2006/relationships/hyperlink" Target="http://www.java.com/en/download/index.jsp" TargetMode="External"/><Relationship Id="rId9" Type="http://schemas.openxmlformats.org/officeDocument/2006/relationships/hyperlink" Target="http://www.java.com/en/download/index.jsp" TargetMode="External"/><Relationship Id="rId10" Type="http://schemas.openxmlformats.org/officeDocument/2006/relationships/hyperlink" Target="http://www.java.com/en/download/index.jsp" TargetMode="External"/><Relationship Id="rId11" Type="http://schemas.openxmlformats.org/officeDocument/2006/relationships/hyperlink" Target="http://www.java.com/en/download/index.jsp" TargetMode="External"/><Relationship Id="rId12" Type="http://schemas.openxmlformats.org/officeDocument/2006/relationships/hyperlink" Target="http://www.java.com/en/download/index.jsp" TargetMode="External"/><Relationship Id="rId13" Type="http://schemas.openxmlformats.org/officeDocument/2006/relationships/hyperlink" Target="http://www.java.com/en/download/index.jsp" TargetMode="External"/><Relationship Id="rId14" Type="http://schemas.openxmlformats.org/officeDocument/2006/relationships/hyperlink" Target="http://www.java.com/en/download/index.jsp" TargetMode="External"/><Relationship Id="rId15" Type="http://schemas.openxmlformats.org/officeDocument/2006/relationships/hyperlink" Target="http://www.java.com/en/download/index.jsp" TargetMode="External"/><Relationship Id="rId16" Type="http://schemas.openxmlformats.org/officeDocument/2006/relationships/hyperlink" Target="http://www.java.com/en/download/index.jsp" TargetMode="External"/><Relationship Id="rId17" Type="http://schemas.openxmlformats.org/officeDocument/2006/relationships/hyperlink" Target="http://www.java.com/en/download/index.jsp" TargetMode="External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How to use the Elluminate,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udents Summit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56040" y="1523880"/>
            <a:ext cx="4287960" cy="4353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648320"/>
            <a:ext cx="4800600" cy="1477080"/>
          </a:xfrm>
          <a:prstGeom prst="rect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You need to have java, if you don’t have it,  use this link to downloa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java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en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ownload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dex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use Googl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ind other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8120"/>
            <a:ext cx="3886200" cy="1295280"/>
          </a:xfrm>
          <a:prstGeom prst="wedgeRectCallout">
            <a:avLst>
              <a:gd name="adj1" fmla="val 101347"/>
              <a:gd name="adj2" fmla="val 29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e your name here and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’t close this window and you will be taken to the summit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3733560" cy="1334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, you are going to receive a link inviting you to the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ss the link until you get this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60480"/>
            <a:ext cx="6858000" cy="480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1600200" cy="1676520"/>
          </a:xfrm>
          <a:prstGeom prst="wedgeRectCallout">
            <a:avLst>
              <a:gd name="adj1" fmla="val 87796"/>
              <a:gd name="adj2" fmla="val 13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 participants names, the yellow microphone indicates the person who is spe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43400"/>
            <a:ext cx="1219320" cy="914400"/>
          </a:xfrm>
          <a:prstGeom prst="wedgeRectCallout">
            <a:avLst>
              <a:gd name="adj1" fmla="val 77865"/>
              <a:gd name="adj2" fmla="val -164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ritten Chat 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410080"/>
            <a:ext cx="1941480" cy="1295640"/>
          </a:xfrm>
          <a:prstGeom prst="wedgeRectCallout">
            <a:avLst>
              <a:gd name="adj1" fmla="val 4949"/>
              <a:gd name="adj2" fmla="val -113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ess here when it's your turn to s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5181480"/>
            <a:ext cx="1503360" cy="1219320"/>
          </a:xfrm>
          <a:prstGeom prst="wedgeRectCallout">
            <a:avLst>
              <a:gd name="adj1" fmla="val -46305"/>
              <a:gd name="adj2" fmla="val -12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just your microphone and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5105520"/>
            <a:ext cx="3505320" cy="1600200"/>
          </a:xfrm>
          <a:prstGeom prst="wedgeRectCallout">
            <a:avLst>
              <a:gd name="adj1" fmla="val -29981"/>
              <a:gd name="adj2" fmla="val -92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hite Bo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here your picture will appear and sometimes the moderator uses it to write his notes or important details. Note: importing the image will be done by the moderator or teacher. Just post your image on the 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1600200" cy="1752480"/>
          </a:xfrm>
          <a:prstGeom prst="wedgeRectCallout">
            <a:avLst>
              <a:gd name="adj1" fmla="val 82439"/>
              <a:gd name="adj2" fmla="val -38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n icon of a hand will appear here. Press it when you want to ask a question or to say some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605480" cy="3776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our Graphic Im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600200"/>
            <a:ext cx="34290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design your graphic image using PowerPoint by collecting different  pics together in one sl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use Print Screen on your Keyboard, or capture pictures from video using Movie Maker. There is an icon on the corner to capture p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follow the instructions  here to save it as an im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5486400"/>
            <a:ext cx="4343400" cy="990720"/>
          </a:xfrm>
          <a:prstGeom prst="wedgeRectCallout">
            <a:avLst>
              <a:gd name="adj1" fmla="val -20287"/>
              <a:gd name="adj2" fmla="val -112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o to save 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then cho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PEG fil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676520" y="4190760"/>
            <a:ext cx="838080" cy="14475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ve designed my image using PowerPoint, and I put the images that I talked about in the Teachers’ Summit: the Omani Group, the importance of Flat Classroom to connect students from different countries outsourced videos, etc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, make your image represent what you are going to talk about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importing the image will be done by the moderator or teacher. Just post your image on the n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81080" y="2971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OOD LUCK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njoy the summit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m Al-Busaid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ama Bin Zaid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00400" y="115920"/>
            <a:ext cx="3124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7:01:22Z</dcterms:created>
  <dc:creator>Intel</dc:creator>
  <dc:description/>
  <dc:language>en-US</dc:language>
  <cp:lastModifiedBy>Intel</cp:lastModifiedBy>
  <dcterms:modified xsi:type="dcterms:W3CDTF">2008-12-04T09:52:59Z</dcterms:modified>
  <cp:revision>5</cp:revision>
  <dc:subject/>
  <dc:title>How to use the Elluminate</dc:title>
</cp:coreProperties>
</file>